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F5F-E292-4728-9B50-F0DFA374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053-38AA-4AAE-B0A8-37ED81A5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C84-C6A5-433A-BDE1-2734AD44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CC2-63C0-416A-9C5A-6D2070A6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532E-B847-40A9-B243-A84DD4BA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F4C2-50D6-4A75-A582-361A6830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4BA3-48F1-42B6-8F7B-8071CBDD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289A-2FEC-48EE-9A9C-51FA32F4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4D74-B91A-4B25-8EC4-3D18D582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9CAF-0C3C-4390-9866-35CE6010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F85B-B0E7-4B37-B3F8-FDCB4269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EAF-59D8-40EB-BE3D-F307670D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E5DA-17F1-4A5A-BB95-0447E6F3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41E9-690A-4A92-B0B5-4EA7943A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9ADC-1856-4174-93DE-1D9C0F9B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BB7C-F0E7-4CB3-8634-E01E749C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D9C8-25DF-4830-B69A-E268FCD1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8A8-82E4-48B6-9507-471E3175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249-897F-416E-82DF-BB9140CC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4DE-700A-4469-9A78-50296AF3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FEE-C57F-42BA-BF6B-FA00411F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F55-B5E4-4D88-81A4-FB65C91C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90C-3157-49F0-8DE9-9DFA9BA4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9C4-37F4-4334-8466-9B0A4F72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62F6-8EA7-48B6-99C5-3214B75A447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3E1D-3AA5-4749-85A2-A9B2670059E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glish Fun and Excit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y Four-Juni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-R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-Aud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-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-Topi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R- ant, A- young boy, F- verbal plea, T- convincing the boy not to step on yo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 assig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e-The Rav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udience-The man in the poem, Homer’s character in the cli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at-Poem, follow Poe’s example. (At least 6 line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pic-Were you real or in the man’s min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scuss writing better sentenc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scuss Tone/M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he Rav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tch Simpson’s Clip of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Rav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AFT homework assign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 was so tired i wanted to lay down my dad he suggested that I ate in an hou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new employee was requested to do there things first complete the Form second submit a reference and third he was asked to mail a resume to the personnel offic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alogies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rosaic : exciting :: _____________ : creativ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____________: novelist :: Emily Dickinson : Poe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tter Sent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rkshee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ne/Moo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Tone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author’s </a:t>
            </a: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attitude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, stated or implied, toward a subject. Some possible attitudes are pessimism, optimism, earnestness, seriousness, bitterness, humorous, and joyful. An author’s tone can be revealed through choice of words and detail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Mood 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climate of  </a:t>
            </a: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feeling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in a literary work. The choice of setting, objects, details, images, and words all contribute towards creating a specific mood. For example, an author may create a mood of mystery around a character or setting but may treat that character or setting in an ironic, serious, or humorous ton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did the chicken cross the road writing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dgar Allan Po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nown for his mystery stori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e of the first short story writ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dered a part of the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Romantic Moveme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259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Th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Raven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ings to think about: Page 25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poem is an example of a narrative poem, what do you think this means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poem uses alliteration, what does this mean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one word does the raven repeat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 your opinion what is the most haunting image in the poem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is the narrator’s emotional state at the beginning of the poem? At the end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does the last line of the poem impl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ings to think about from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The Simps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tone/mood of the clip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es this differ from the poem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 you agree with Lisa that it is a creepy poem, or with Bart that it is bor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2:38:16Z</dcterms:created>
  <dc:creator>Angie</dc:creator>
  <dc:description/>
  <dc:language>en-US</dc:language>
  <cp:lastModifiedBy>Angie</cp:lastModifiedBy>
  <dcterms:modified xsi:type="dcterms:W3CDTF">2009-08-24T04:12:36Z</dcterms:modified>
  <cp:revision>3</cp:revision>
  <dc:subject/>
  <dc:title>English Fun and Exciting</dc:title>
</cp:coreProperties>
</file>